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1D2-D25D-4276-961E-A485094A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8B5-CDE8-4D60-9391-9605E996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68C-2634-48B9-B82A-5FEA7D4C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56B-8816-46A8-AA10-CE41B655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280-6C1C-47C4-B9C1-76D52BAF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E93-23F6-484C-B247-66364D74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3F9-712E-4AED-A9DD-667D296B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1DD-C69F-4073-90BB-FF7D6315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01D-D2F3-428A-9B24-5119BC14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FAB-9B94-46F3-AA46-F0F6B083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429-CA9A-4A8C-B5A7-33A8FFD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2F4-3786-4A4B-9281-410F97E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1560-72FF-4F0B-9393-4AED60CAB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Christma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Art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3962160"/>
            <a:ext cx="16002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4775040"/>
            <a:ext cx="1909800" cy="345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38480" y="5587920"/>
            <a:ext cx="2212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2336760"/>
            <a:ext cx="3314880" cy="202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680" y="50796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mudger LET"/>
              </a:rPr>
              <a:t>Letters To Sa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5994360"/>
            <a:ext cx="4971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ten by St. Jude Kindergarten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ed by Art &amp; Technology Students  -  Grades 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25:14Z</dcterms:created>
  <dc:creator>falcon14</dc:creator>
  <dc:description/>
  <dc:language>en-US</dc:language>
  <cp:lastModifiedBy>Patrick J. Mooney</cp:lastModifiedBy>
  <dcterms:modified xsi:type="dcterms:W3CDTF">2010-12-10T18:13:01Z</dcterms:modified>
  <cp:revision>10</cp:revision>
  <dc:subject/>
  <dc:title>Christmas Art and tech</dc:title>
</cp:coreProperties>
</file>